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61449-047F-45BF-AC6A-D687E9963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AAD70-7B91-4C26-8E84-84C53B0BF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0DFA6-9CD9-41EC-8C7C-7D45ED293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6B2A0-1116-4552-9880-F88AC32FF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5B0A7-2259-479C-8040-109BB0B7B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992B8-ADDD-4D03-B706-3C3AD4C77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552A5-451E-4072-B402-90D53D009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C419F-9DEC-48F6-A10A-E7948F55A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96586-441B-4F71-BAC3-347EC4236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E2B48-73F2-4C07-87C4-947BC3B91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DEF37-2D73-4D5C-90FF-0E91AF063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C1D77-0B8E-4DFC-A49F-6DEB4DF44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C3FE5-12BE-42DA-8C35-216E815509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rot="20986200">
            <a:off x="1331640" y="2349360"/>
            <a:ext cx="6480000" cy="2951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843280" y="3284640"/>
            <a:ext cx="3097080" cy="10810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924360" y="357336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276360" y="2637000"/>
            <a:ext cx="158436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2843280" y="3284640"/>
            <a:ext cx="43344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 flipV="1">
            <a:off x="2268000" y="2852640"/>
            <a:ext cx="1008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43280" y="4005360"/>
            <a:ext cx="1081080" cy="20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00720" y="2841480"/>
            <a:ext cx="158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cident R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1403280" y="981000"/>
            <a:ext cx="61628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Total Internal Refractio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0" name=""/>
          <p:cNvSpPr/>
          <p:nvPr/>
        </p:nvSpPr>
        <p:spPr>
          <a:xfrm>
            <a:off x="2340000" y="227664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flected r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476360" y="3860640"/>
            <a:ext cx="1295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flected here because there is no refr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5T09:44:37Z</dcterms:created>
  <dc:creator>kidd</dc:creator>
  <dc:description/>
  <dc:language>en-US</dc:language>
  <cp:lastModifiedBy>kidd</cp:lastModifiedBy>
  <dcterms:modified xsi:type="dcterms:W3CDTF">2008-05-05T09:44:44Z</dcterms:modified>
  <cp:revision>1</cp:revision>
  <dc:subject/>
  <dc:title>Slide 1</dc:title>
</cp:coreProperties>
</file>